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839F-5398-4B05-8A2F-893647D0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5077-0D8F-4250-8171-8B3A94F4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E4ED-BB38-47F6-B8A9-0F45A7A1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0BEA-6FD9-4502-B68A-AB1CF097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6984-CD4D-416E-8753-D23ED416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5A07-A205-4A4E-991E-023FBCD9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2D9C-4AB7-4BBA-9F1A-02750BF1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A017-30B3-4908-8957-971921C7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4126-F6CE-4464-8BC1-9A289F1F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EB08-3B9B-4876-8434-0A0DBF45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3163-60E2-4282-AAF6-8FC30B79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3431-20CB-4E2A-9C0D-EED02C54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761F-6780-4CBE-BD97-90B7FAB00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others &amp; Sist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9810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flower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7. broth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8. moth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under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9. fath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10. aft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better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11. oth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6. sister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12. cent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5. better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11. oth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6. sister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12. cent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others &amp; Sist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under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5. aft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6. oth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better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sister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others &amp; Sist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524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flowerbed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7. broth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waterfall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8. mother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underneath 9. fath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overall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   10. afterward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better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   11. otherwise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. Sister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2. feath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10:46:15Z</dcterms:created>
  <dc:creator>Kathryn.Cobb</dc:creator>
  <dc:description/>
  <dc:language>en-US</dc:language>
  <cp:lastModifiedBy>Kathryn Cobb</cp:lastModifiedBy>
  <cp:lastPrinted>2009-03-12T10:56:09Z</cp:lastPrinted>
  <dcterms:modified xsi:type="dcterms:W3CDTF">2009-03-12T10:57:26Z</dcterms:modified>
  <cp:revision>3</cp:revision>
  <dc:subject/>
  <dc:title>Brothers &amp; Sisters Group A </dc:title>
</cp:coreProperties>
</file>